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B57-0FAD-411A-B3F7-F8C30206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F6C-F564-4F3C-97ED-4D27D954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ED5-BF43-4FB0-8FF3-EC5B5ADB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DB9-2371-4774-9C3C-28FEF9CB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5FB-194E-4035-A826-4BFA48BA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491-3030-4FE2-AFD7-DA40614C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467-B770-44DF-92F5-E2F01CB5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503-09B2-4BDA-BCE2-8931C360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3CE-AD7E-4915-8DE1-97894EB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4B5-7D6A-4BDC-A91A-2BBAAF30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82C-246C-4850-92C9-00C1787A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C60-C82D-4963-ABB4-06B36BBB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2ABC-374B-4052-84BA-15403D00D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Peace and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lomacy and Dete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scarc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only restored in June 1976 after an agreement was 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 could only catch a fixed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land’s patrols could stop boats to check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 over ideological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values and beliefs among countries can caus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 can come into conflict if they feel that their ideologies are being threat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 over ideological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Korea and South Korea fought a war because N. Korea believed in communism and South Korea believed in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ea was divided at the 3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llel after WW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rthern part was temporarily occupied by the USSR while the South was occupied by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 over ideological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 called for an election in 1947 to establish a government to unite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SR refused and installed a communist regime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Korea invaded the South in 1950 to unite Korea under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A, its allies and the UN defended 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 over ideological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forces forced the North Koreans 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ug 1953, an agreement to stop fighting was signed by all parties and a demilitarised zone between North and South was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2 Why is Deterrence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militarily self-relian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experienced the Japanese occupation and Indonesian Confro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 strong military force, people do not feel secure and foreign companies are not willing to inv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government realised this when the British pulled out in 19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3 How is Deterrence practi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itizen armed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on Singapore Armed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’s Defence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Agency coordination on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co-operation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itizen Armed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could not afford a large professional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decided to build a citizen armed force through enli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7, National Service wa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ans learn to defend the nation in their time in 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ans also bond through their experiences in 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itizen Armed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completion of NS, these men would continue to serve as operationally-ready NS men for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ir training, they would undergo refresher courses and maintain their compe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eneration Singapore Armed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fare has become more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SAF consistently enhances its capabilities in warfare through R&amp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 started a project with research institutes and local unis to create the 3G S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G SAF works towards maximising defensive capabilities through moder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1 Why do Conflicts occur amo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untries protect their national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s occur when countries disagree 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ments arise ove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ng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over scarce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over ideologic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apore’s Defence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 needs the latest technology to build an effective fighting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does this by building its own defence industry, making SAF self-re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ence industry started in 1967 with the establishment of Chartered Industries of Singapore (C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 has now developed into a successful defenc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apore’s Defence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ce Science and Technology Agency (DSTA) formed in 2000 to provide cost-effective and modern technology to the S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s on buying and upgrading weapons, as well as developing new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s research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Defence: Civil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to know what to do in a civil eme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Hotel New World Dis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Defence: Economic Def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economy requires Singaporeans to adjust to changing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need to upgrad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Workforce Development Agency (WDA) formed in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 works with other agencies to help workers upgrade thei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Defence: Social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strengthening of Social ties through various organisations (CDC and IR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include visit to places of worship and inter-faith dialo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ensure that unity will not be broken during testing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Defence: Psychological  Def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pride and loyalty and wanting to stand up and defend Singa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will and mental strength to overcome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Agency 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Security Coordination Secretariat (NSCS) set up to coordinate various govern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networking strengthens Singapore’s nation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CS meets regularly to plan national security policies and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orks with commercial and private parties to combat th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itary Co-operation with other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actively fosters friendly ties with armed forces of other countries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teral military agreements and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s with France, Australia,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s with Malaysia and Indon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lateral military agreements and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Power Defence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s conducted every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consult one another on dete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Why is Diplomacy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 are connected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 use diplomacy to pursue mutual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 countries to cooperate and solv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ve conflicts peac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untries to help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ng Terri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ver land can mean a lot to a country esp.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nd is important to their de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nd represents national p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countries try to control land that isn’t the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territory is claimed by two countries, it can result in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How is Diplomacy practi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ater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-to-Country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has been actively involved in expanding bilater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– Japan, Germany,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ater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promote political, economic and cultural 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y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able to speed up economic and soci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ater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willing to help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h (Tsunami Reli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gains world recognition and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of countries in a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strengths of member countries, the association becomes str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n a better position when dealing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Union (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Asian Association for Regional Cooperation (SAA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of Southeast Asian Nations (AS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7, five countries formed AS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y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Declaration signed in Bangkok 8 Aug 19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0s, SE Asia was going through various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sian leaders saw the need for a regional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AN is a venue for resolving disputes among memb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AN Is a united and collective voice to strengthen bargaining power with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AN Free Trade Area (AF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sia is attractive to inv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ntense competition from India &amp;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ntegration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EAN launched AFTA in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s to remove import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erm plan: integrate Asian economies into a single production base. Remove import taxes b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AN Regional Forum (AR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countries in Asia-Pacif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peace by promoting political and security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nue for peaceful discussion and securit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include China, Japan, North Korea, India, New Zealand, Australia, USA and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and Professional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Singapore’s contribution to ASEAN is techn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technic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apore offers scholarships under Singapore Cooperation Programme (S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ond involved and allows students from any ASEAN country to study in Singapore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B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7, India inherited a border drawn by the Brit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disagreed with the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in having a clear border because most of the frontier is in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order regions became areas of confli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sai Chin Plateau (W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Eastern Frontier Agency (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cooperation an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narrow economic gap between memb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 for ASEAN Integration (IA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-year aid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$80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memb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onesian Forest Fires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erious haze problem in th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apore offered assistance in the monitoring of fires through satellite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Relations (U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26 June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of 192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apore and the 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ber on 21 September 19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Singapore recognition as a sovereig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helped Singapore by sending experts in economic and soci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Albert Winsem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Law of the Sea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how countries can draw territorial sea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rights of landlocked states to access the 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guidelines to safeguard the marin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freedom of scientific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Tommy Koh was President of the Third UN Conference of the Law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Security Cou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permanent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, United Kingdom, France, China and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rotating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was a rotating member 2001-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served as President of th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ed confidence member states have in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eacekeeping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countries torn b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keeping operations are auhorised by UN Security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keepers are soldiers, military officers, police officers and civilian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has been involved since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 – S’pore involved in 13 operations in 11 different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B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950s, China was unwilling to negotiate seriously with India and commit to a fixed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58, China built a road on the Aksai Chin Plateau and India protested that China had violated India’s territori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disagreed saying that the border was not f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B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59, tension worsened when fighting brok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id-1961, China occupied more territories of India it regarded as its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demanded the return of the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, war brok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and China signed an agreement in 2005 to address the issue but it has not been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scarc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 are unequally distributed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have more, some have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ith less might use force to gain more, especially when these resources are necessary for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scarc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1970s, Iceland and Britain were in conflict over fishing 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land depended on fishing for survival and felt threatened when fishermen from other European countries overfished around Ic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tocks decreased around Ic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scarc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75, Iceland extended its zone of control over fishing from 50 nautical miles to 200 nautical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untries could fish within that boundary without Iceland’s per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 refused to acknowledge the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land cut diplomatic ties with Britain in Feb 19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7:16:55Z</dcterms:created>
  <dc:creator>moe</dc:creator>
  <dc:description/>
  <dc:language>en-US</dc:language>
  <cp:lastModifiedBy>moe</cp:lastModifiedBy>
  <dcterms:modified xsi:type="dcterms:W3CDTF">2010-02-07T13:58:00Z</dcterms:modified>
  <cp:revision>7</cp:revision>
  <dc:subject/>
  <dc:title>Managing Peace and Security</dc:title>
</cp:coreProperties>
</file>